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609480"/>
            <a:ext cx="9123120" cy="5638680"/>
            <a:chOff x="3240" y="609480"/>
            <a:chExt cx="9123120" cy="5638680"/>
          </a:xfrm>
        </p:grpSpPr>
        <p:grpSp>
          <p:nvGrpSpPr>
            <p:cNvPr id="1" name=""/>
            <p:cNvGrpSpPr/>
            <p:nvPr/>
          </p:nvGrpSpPr>
          <p:grpSpPr>
            <a:xfrm>
              <a:off x="3240" y="4286160"/>
              <a:ext cx="9123120" cy="1528920"/>
              <a:chOff x="3240" y="4286160"/>
              <a:chExt cx="9123120" cy="152892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" y="428616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" y="4438800"/>
                <a:ext cx="9123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" y="459108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" y="4743360"/>
                <a:ext cx="9123120" cy="0"/>
              </a:xfrm>
              <a:prstGeom prst="line">
                <a:avLst/>
              </a:prstGeom>
              <a:ln w="25560">
                <a:solidFill>
                  <a:srgbClr val="ff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" y="489600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" y="504828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" y="5200560"/>
                <a:ext cx="91231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3240" y="535320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3240" y="5505480"/>
                <a:ext cx="9123120" cy="0"/>
              </a:xfrm>
              <a:prstGeom prst="line">
                <a:avLst/>
              </a:prstGeom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3240" y="5657760"/>
                <a:ext cx="9123120" cy="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flipV="1">
                <a:off x="3240" y="5810400"/>
                <a:ext cx="9120240" cy="4680"/>
              </a:xfrm>
              <a:prstGeom prst="line">
                <a:avLst/>
              </a:prstGeom>
              <a:ln w="255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2920" bIns="-52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728640" y="609480"/>
              <a:ext cx="7686720" cy="563868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362400" y="1001880"/>
            <a:ext cx="241920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243828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0532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65760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32767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81480" y="32767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8148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7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97160" y="1001880"/>
            <a:ext cx="2749680" cy="58572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NSCR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71600" y="2362320"/>
            <a:ext cx="2438280" cy="68580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creen Bui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7160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SCR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3880" y="5181480"/>
            <a:ext cx="2209680" cy="5335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x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ourc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320040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648320"/>
            <a:ext cx="533880" cy="305280"/>
          </a:xfrm>
          <a:custGeom>
            <a:avLst/>
            <a:gdLst/>
            <a:ahLst/>
            <a:rect l="0" t="0" r="r" b="b"/>
            <a:pathLst>
              <a:path w="1483" h="848">
                <a:moveTo>
                  <a:pt x="494" y="0"/>
                </a:moveTo>
                <a:lnTo>
                  <a:pt x="987" y="0"/>
                </a:lnTo>
                <a:lnTo>
                  <a:pt x="987" y="593"/>
                </a:lnTo>
                <a:lnTo>
                  <a:pt x="1483" y="593"/>
                </a:lnTo>
                <a:lnTo>
                  <a:pt x="741" y="848"/>
                </a:lnTo>
                <a:lnTo>
                  <a:pt x="0" y="593"/>
                </a:lnTo>
                <a:lnTo>
                  <a:pt x="494" y="593"/>
                </a:lnTo>
                <a:lnTo>
                  <a:pt x="494" y="0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638680" y="3657600"/>
            <a:ext cx="2438280" cy="762120"/>
          </a:xfrm>
          <a:prstGeom prst="rect">
            <a:avLst/>
          </a:pr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GENSC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3962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848" y="282"/>
                </a:moveTo>
                <a:lnTo>
                  <a:pt x="848" y="564"/>
                </a:lnTo>
                <a:lnTo>
                  <a:pt x="255" y="564"/>
                </a:lnTo>
                <a:lnTo>
                  <a:pt x="255" y="848"/>
                </a:lnTo>
                <a:lnTo>
                  <a:pt x="0" y="424"/>
                </a:lnTo>
                <a:lnTo>
                  <a:pt x="255" y="0"/>
                </a:lnTo>
                <a:lnTo>
                  <a:pt x="255" y="282"/>
                </a:lnTo>
                <a:lnTo>
                  <a:pt x="848" y="282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3657600"/>
            <a:ext cx="381240" cy="305280"/>
          </a:xfrm>
          <a:custGeom>
            <a:avLst/>
            <a:gdLst/>
            <a:ahLst/>
            <a:rect l="0" t="0" r="r" b="b"/>
            <a:pathLst>
              <a:path w="1059" h="848">
                <a:moveTo>
                  <a:pt x="0" y="282"/>
                </a:moveTo>
                <a:lnTo>
                  <a:pt x="0" y="564"/>
                </a:lnTo>
                <a:lnTo>
                  <a:pt x="741" y="564"/>
                </a:lnTo>
                <a:lnTo>
                  <a:pt x="741" y="848"/>
                </a:lnTo>
                <a:lnTo>
                  <a:pt x="1059" y="424"/>
                </a:lnTo>
                <a:lnTo>
                  <a:pt x="741" y="0"/>
                </a:lnTo>
                <a:lnTo>
                  <a:pt x="741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67676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00400" y="46483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114800" y="373392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ified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320040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495680" y="4038480"/>
            <a:ext cx="762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tatic ASCII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