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36520" y="0"/>
            <a:ext cx="8896320" cy="6845400"/>
            <a:chOff x="236520" y="0"/>
            <a:chExt cx="8896320" cy="6845400"/>
          </a:xfrm>
        </p:grpSpPr>
        <p:sp>
          <p:nvSpPr>
            <p:cNvPr id="1" name=""/>
            <p:cNvSpPr/>
            <p:nvPr/>
          </p:nvSpPr>
          <p:spPr>
            <a:xfrm>
              <a:off x="236520" y="0"/>
              <a:ext cx="237960" cy="68454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39560" y="0"/>
              <a:ext cx="372960" cy="46674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2200" y="0"/>
              <a:ext cx="1082520" cy="335268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6440" y="0"/>
              <a:ext cx="304920" cy="38862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2200" y="1467000"/>
              <a:ext cx="525600" cy="121932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07960" y="1409760"/>
              <a:ext cx="8624880" cy="1332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6520" y="1409760"/>
              <a:ext cx="889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 txBox="1"/>
          <p:nvPr/>
        </p:nvSpPr>
        <p:spPr>
          <a:xfrm>
            <a:off x="90360" y="6485040"/>
            <a:ext cx="2584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crosoft Windows Multi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75E00EEE-16B4-4693-BA21-076F3BA74A69}" type="slidenum"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Gets Seriou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ut F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nouncements at the 1994 Computer Game Developer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Are We 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are committed to great multimedia support in Wind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ames are the category of multimedia application that customers request the m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have a lot of work to do, but WinG and Chicago are a solid st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’re here to lis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indows 3.1 Had To Of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vanced memory manag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ice indepen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large, active customer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zzzzt!  No thanks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33600" y="1914480"/>
            <a:ext cx="7015320" cy="4791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117880" y="1812960"/>
            <a:ext cx="567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3 Computer Game Sales by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32080" y="5927760"/>
            <a:ext cx="1420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98560" y="5470560"/>
            <a:ext cx="76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895480" y="586728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76520" y="5486400"/>
            <a:ext cx="76176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937040" y="2994120"/>
            <a:ext cx="2927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MS-D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403880" y="6224760"/>
            <a:ext cx="3995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: PC Data 1993 Annual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ics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ics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ics Speed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other stuf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G: Graphics Speed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lt blaster.  Approaches raw MS-DOS 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nction pulled forward from Chicago.  Games that use it will run fast on Win3.1, Chicago and Windows 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intains Windows device independence advant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distributable at no ch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mes on Chica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2-bit 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lexible multi-threading archite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digital video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network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MIDI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oiceView modem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D support for the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 Windows is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stomers want Windows g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duce your support costs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ice independenc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ndows mem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n possibilities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 Graphics, Networking,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gital Video, VoiceView, 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ff Camp</dc:creator>
  <dc:description/>
  <dc:language>en-US</dc:language>
  <cp:lastModifiedBy>Jeff Camp</cp:lastModifiedBy>
  <cp:revision>0</cp:revision>
  <dc:subject/>
  <dc:title>Microsoft Gets Serious About Fun</dc:title>
</cp:coreProperties>
</file>