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2440" y="453960"/>
            <a:ext cx="8255160" cy="969840"/>
            <a:chOff x="352440" y="453960"/>
            <a:chExt cx="8255160" cy="969840"/>
          </a:xfrm>
        </p:grpSpPr>
        <p:sp>
          <p:nvSpPr>
            <p:cNvPr id="1" name=""/>
            <p:cNvSpPr/>
            <p:nvPr/>
          </p:nvSpPr>
          <p:spPr>
            <a:xfrm>
              <a:off x="1276200" y="1263600"/>
              <a:ext cx="73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52440" y="453960"/>
              <a:ext cx="8827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257960" y="95400"/>
            <a:ext cx="1628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con94   09/26/94    </a:t>
            </a:r>
            <a:fld id="{093E11A3-4E0E-42C6-8A54-F5A1E974A8B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6035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 Deskto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96920" y="3657600"/>
            <a:ext cx="71787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ll Banyan Developer Conference 199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even S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r, Messaging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Systems Incorpo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ub-Classing SendMail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6120" y="3035160"/>
            <a:ext cx="1105200" cy="889200"/>
          </a:xfrm>
          <a:custGeom>
            <a:avLst/>
            <a:gdLst/>
            <a:ahLst/>
            <a:rect l="0" t="0" r="r" b="b"/>
            <a:pathLst>
              <a:path fill="none" w="3070" h="2470">
                <a:moveTo>
                  <a:pt x="1534" y="0"/>
                </a:moveTo>
                <a:lnTo>
                  <a:pt x="1689" y="706"/>
                </a:lnTo>
                <a:lnTo>
                  <a:pt x="2292" y="172"/>
                </a:lnTo>
                <a:lnTo>
                  <a:pt x="2014" y="844"/>
                </a:lnTo>
                <a:lnTo>
                  <a:pt x="2870" y="619"/>
                </a:lnTo>
                <a:lnTo>
                  <a:pt x="2206" y="1102"/>
                </a:lnTo>
                <a:lnTo>
                  <a:pt x="3070" y="1234"/>
                </a:lnTo>
                <a:lnTo>
                  <a:pt x="2206" y="1367"/>
                </a:lnTo>
                <a:lnTo>
                  <a:pt x="2870" y="1853"/>
                </a:lnTo>
                <a:lnTo>
                  <a:pt x="2013" y="1644"/>
                </a:lnTo>
                <a:lnTo>
                  <a:pt x="2292" y="2309"/>
                </a:lnTo>
                <a:lnTo>
                  <a:pt x="1713" y="1775"/>
                </a:lnTo>
                <a:lnTo>
                  <a:pt x="1519" y="2470"/>
                </a:lnTo>
                <a:lnTo>
                  <a:pt x="1350" y="1775"/>
                </a:lnTo>
                <a:lnTo>
                  <a:pt x="770" y="2309"/>
                </a:lnTo>
                <a:lnTo>
                  <a:pt x="1049" y="1637"/>
                </a:lnTo>
                <a:lnTo>
                  <a:pt x="193" y="1861"/>
                </a:lnTo>
                <a:lnTo>
                  <a:pt x="856" y="1378"/>
                </a:lnTo>
                <a:lnTo>
                  <a:pt x="0" y="1240"/>
                </a:lnTo>
                <a:lnTo>
                  <a:pt x="856" y="1102"/>
                </a:lnTo>
                <a:lnTo>
                  <a:pt x="193" y="620"/>
                </a:lnTo>
                <a:lnTo>
                  <a:pt x="1049" y="844"/>
                </a:lnTo>
                <a:lnTo>
                  <a:pt x="770" y="170"/>
                </a:lnTo>
                <a:lnTo>
                  <a:pt x="1348" y="706"/>
                </a:lnTo>
                <a:lnTo>
                  <a:pt x="1534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760" y="1727280"/>
            <a:ext cx="8918640" cy="4140360"/>
            <a:chOff x="212760" y="1727280"/>
            <a:chExt cx="8918640" cy="4140360"/>
          </a:xfrm>
        </p:grpSpPr>
        <p:sp>
          <p:nvSpPr>
            <p:cNvPr id="72" name=""/>
            <p:cNvSpPr txBox="1"/>
            <p:nvPr/>
          </p:nvSpPr>
          <p:spPr>
            <a:xfrm>
              <a:off x="212760" y="1727280"/>
              <a:ext cx="891864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fafd00"/>
                </a:buClr>
                <a:buSzPct val="125000"/>
                <a:buFont typeface="Arial"/>
                <a:buChar char=""/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Mail has two additional API calls for sub-classing.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 the “H” API version includes an new argument for a window handle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STR lpFileName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Ex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BODY_PIECES lpBodyPieces, LPSTR lpRecip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9960" y="4635360"/>
              <a:ext cx="1105200" cy="889200"/>
            </a:xfrm>
            <a:custGeom>
              <a:avLst/>
              <a:gdLst/>
              <a:ahLst/>
              <a:rect l="0" t="0" r="r" b="b"/>
              <a:pathLst>
                <a:path fill="none" w="3070" h="2470">
                  <a:moveTo>
                    <a:pt x="1534" y="0"/>
                  </a:moveTo>
                  <a:lnTo>
                    <a:pt x="1689" y="706"/>
                  </a:lnTo>
                  <a:lnTo>
                    <a:pt x="2292" y="172"/>
                  </a:lnTo>
                  <a:lnTo>
                    <a:pt x="2014" y="844"/>
                  </a:lnTo>
                  <a:lnTo>
                    <a:pt x="2870" y="619"/>
                  </a:lnTo>
                  <a:lnTo>
                    <a:pt x="2206" y="1102"/>
                  </a:lnTo>
                  <a:lnTo>
                    <a:pt x="3070" y="1234"/>
                  </a:lnTo>
                  <a:lnTo>
                    <a:pt x="2206" y="1367"/>
                  </a:lnTo>
                  <a:lnTo>
                    <a:pt x="2870" y="1853"/>
                  </a:lnTo>
                  <a:lnTo>
                    <a:pt x="2013" y="1644"/>
                  </a:lnTo>
                  <a:lnTo>
                    <a:pt x="2292" y="2309"/>
                  </a:lnTo>
                  <a:lnTo>
                    <a:pt x="1713" y="1775"/>
                  </a:lnTo>
                  <a:lnTo>
                    <a:pt x="1519" y="2470"/>
                  </a:lnTo>
                  <a:lnTo>
                    <a:pt x="1350" y="1775"/>
                  </a:lnTo>
                  <a:lnTo>
                    <a:pt x="770" y="2309"/>
                  </a:lnTo>
                  <a:lnTo>
                    <a:pt x="1049" y="1637"/>
                  </a:lnTo>
                  <a:lnTo>
                    <a:pt x="193" y="1861"/>
                  </a:lnTo>
                  <a:lnTo>
                    <a:pt x="856" y="1378"/>
                  </a:lnTo>
                  <a:lnTo>
                    <a:pt x="0" y="1240"/>
                  </a:lnTo>
                  <a:lnTo>
                    <a:pt x="856" y="1102"/>
                  </a:lnTo>
                  <a:lnTo>
                    <a:pt x="193" y="620"/>
                  </a:lnTo>
                  <a:lnTo>
                    <a:pt x="1049" y="844"/>
                  </a:lnTo>
                  <a:lnTo>
                    <a:pt x="770" y="170"/>
                  </a:lnTo>
                  <a:lnTo>
                    <a:pt x="1348" y="706"/>
                  </a:lnTo>
                  <a:lnTo>
                    <a:pt x="1534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0920" y="885960"/>
            <a:ext cx="78706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chitecture of Message structur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4520" y="1909800"/>
            <a:ext cx="9010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essage structure has the following developer-controlled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rtification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ject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der placement after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ddressing for “Flexible”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70120" y="4708440"/>
            <a:ext cx="611676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all addressing i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Recip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N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ULL, this intermediate dialog will appear for name selection on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32080" y="1881360"/>
            <a:ext cx="47451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43080" y="72864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re About VnsSimpleSendMailEx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320" y="1832040"/>
            <a:ext cx="89186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s developers to use their own front end or form instead of using the built-in on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ame considerations about file locking apply as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populating the structure BODY_PIECES with correct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setup examples will b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STDA Browser - VNSD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0600" y="1752480"/>
            <a:ext cx="89186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type of Browser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 and shoot - erg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al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set by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L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ursive Lis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selected name from result bu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 in replacement f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Sing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6360" y="1708200"/>
            <a:ext cx="85294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      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Multip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8960" y="1488960"/>
            <a:ext cx="85294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Multi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s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Title,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the result list box *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,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nt nResultLen    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size of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5318280"/>
            <a:ext cx="814068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6022800"/>
            <a:ext cx="817884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e for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1663560"/>
            <a:ext cx="8918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ailed toolkit information ab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447840"/>
                <a:tab algn="l" pos="3652920"/>
                <a:tab algn="l" pos="3881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found on pages 9-5 through 9-9 of the VINES StreetTal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TDA Programming Inte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 Number: 0037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: April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VINES revision: 5.5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05160" y="2120760"/>
            <a:ext cx="4081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534000" y="4626000"/>
            <a:ext cx="1743480" cy="592200"/>
            <a:chOff x="6534000" y="4626000"/>
            <a:chExt cx="1743480" cy="592200"/>
          </a:xfrm>
        </p:grpSpPr>
        <p:sp>
          <p:nvSpPr>
            <p:cNvPr id="94" name=""/>
            <p:cNvSpPr txBox="1"/>
            <p:nvPr/>
          </p:nvSpPr>
          <p:spPr>
            <a:xfrm>
              <a:off x="6883560" y="4626000"/>
              <a:ext cx="139392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and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34000" y="4979880"/>
              <a:ext cx="352800" cy="238320"/>
            </a:xfrm>
            <a:custGeom>
              <a:avLst/>
              <a:gdLst/>
              <a:ahLst/>
              <a:rect l="0" t="0" r="r" b="b"/>
              <a:pathLst>
                <a:path w="980" h="662">
                  <a:moveTo>
                    <a:pt x="980" y="220"/>
                  </a:moveTo>
                  <a:lnTo>
                    <a:pt x="980" y="441"/>
                  </a:lnTo>
                  <a:lnTo>
                    <a:pt x="294" y="441"/>
                  </a:lnTo>
                  <a:lnTo>
                    <a:pt x="294" y="662"/>
                  </a:lnTo>
                  <a:lnTo>
                    <a:pt x="0" y="330"/>
                  </a:lnTo>
                  <a:lnTo>
                    <a:pt x="294" y="0"/>
                  </a:lnTo>
                  <a:lnTo>
                    <a:pt x="294" y="220"/>
                  </a:lnTo>
                  <a:lnTo>
                    <a:pt x="98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543720" y="2521080"/>
            <a:ext cx="1704960" cy="592200"/>
            <a:chOff x="6543720" y="2521080"/>
            <a:chExt cx="1704960" cy="592200"/>
          </a:xfrm>
        </p:grpSpPr>
        <p:sp>
          <p:nvSpPr>
            <p:cNvPr id="97" name=""/>
            <p:cNvSpPr txBox="1"/>
            <p:nvPr/>
          </p:nvSpPr>
          <p:spPr>
            <a:xfrm>
              <a:off x="6885000" y="2521080"/>
              <a:ext cx="136368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patter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3720" y="2874960"/>
              <a:ext cx="344880" cy="238320"/>
            </a:xfrm>
            <a:custGeom>
              <a:avLst/>
              <a:gdLst/>
              <a:ahLst/>
              <a:rect l="0" t="0" r="r" b="b"/>
              <a:pathLst>
                <a:path w="958" h="662">
                  <a:moveTo>
                    <a:pt x="958" y="220"/>
                  </a:moveTo>
                  <a:lnTo>
                    <a:pt x="958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58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553080" y="3521160"/>
            <a:ext cx="1714680" cy="592200"/>
            <a:chOff x="6553080" y="3521160"/>
            <a:chExt cx="1714680" cy="592200"/>
          </a:xfrm>
        </p:grpSpPr>
        <p:sp>
          <p:nvSpPr>
            <p:cNvPr id="100" name=""/>
            <p:cNvSpPr txBox="1"/>
            <p:nvPr/>
          </p:nvSpPr>
          <p:spPr>
            <a:xfrm>
              <a:off x="6896160" y="3521160"/>
              <a:ext cx="137160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A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3080" y="3875040"/>
              <a:ext cx="346320" cy="238320"/>
            </a:xfrm>
            <a:custGeom>
              <a:avLst/>
              <a:gdLst/>
              <a:ahLst/>
              <a:rect l="0" t="0" r="r" b="b"/>
              <a:pathLst>
                <a:path w="962" h="662">
                  <a:moveTo>
                    <a:pt x="962" y="220"/>
                  </a:moveTo>
                  <a:lnTo>
                    <a:pt x="962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62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00280" y="2556000"/>
            <a:ext cx="1447920" cy="592200"/>
            <a:chOff x="800280" y="2556000"/>
            <a:chExt cx="1447920" cy="592200"/>
          </a:xfrm>
        </p:grpSpPr>
        <p:sp>
          <p:nvSpPr>
            <p:cNvPr id="103" name=""/>
            <p:cNvSpPr txBox="1"/>
            <p:nvPr/>
          </p:nvSpPr>
          <p:spPr>
            <a:xfrm>
              <a:off x="800280" y="2556000"/>
              <a:ext cx="115884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o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 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5880" y="2909880"/>
              <a:ext cx="292320" cy="238320"/>
            </a:xfrm>
            <a:custGeom>
              <a:avLst/>
              <a:gdLst/>
              <a:ahLst/>
              <a:rect l="0" t="0" r="r" b="b"/>
              <a:pathLst>
                <a:path w="812" h="662">
                  <a:moveTo>
                    <a:pt x="0" y="220"/>
                  </a:moveTo>
                  <a:lnTo>
                    <a:pt x="0" y="441"/>
                  </a:lnTo>
                  <a:lnTo>
                    <a:pt x="568" y="441"/>
                  </a:lnTo>
                  <a:lnTo>
                    <a:pt x="568" y="662"/>
                  </a:lnTo>
                  <a:lnTo>
                    <a:pt x="812" y="330"/>
                  </a:lnTo>
                  <a:lnTo>
                    <a:pt x="568" y="0"/>
                  </a:lnTo>
                  <a:lnTo>
                    <a:pt x="568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08800" y="5356080"/>
            <a:ext cx="1768320" cy="624240"/>
            <a:chOff x="6508800" y="5356080"/>
            <a:chExt cx="1768320" cy="624240"/>
          </a:xfrm>
        </p:grpSpPr>
        <p:sp>
          <p:nvSpPr>
            <p:cNvPr id="106" name=""/>
            <p:cNvSpPr txBox="1"/>
            <p:nvPr/>
          </p:nvSpPr>
          <p:spPr>
            <a:xfrm>
              <a:off x="6877080" y="5408640"/>
              <a:ext cx="1400040" cy="571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mo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5356080"/>
              <a:ext cx="405000" cy="238320"/>
            </a:xfrm>
            <a:custGeom>
              <a:avLst/>
              <a:gdLst/>
              <a:ahLst/>
              <a:rect l="0" t="0" r="r" b="b"/>
              <a:pathLst>
                <a:path w="1125" h="662">
                  <a:moveTo>
                    <a:pt x="1125" y="220"/>
                  </a:moveTo>
                  <a:lnTo>
                    <a:pt x="1125" y="441"/>
                  </a:lnTo>
                  <a:lnTo>
                    <a:pt x="337" y="441"/>
                  </a:lnTo>
                  <a:lnTo>
                    <a:pt x="337" y="662"/>
                  </a:lnTo>
                  <a:lnTo>
                    <a:pt x="0" y="330"/>
                  </a:lnTo>
                  <a:lnTo>
                    <a:pt x="337" y="0"/>
                  </a:lnTo>
                  <a:lnTo>
                    <a:pt x="337" y="220"/>
                  </a:lnTo>
                  <a:lnTo>
                    <a:pt x="1125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: Subset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360" y="2511360"/>
            <a:ext cx="3660840" cy="1852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54360" y="1955880"/>
            <a:ext cx="43830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s can be added “on the fly” by just typing in the List Subset field on the main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ld windows for Subset Dialog allows Name mas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 patterns are stored for future use in the user’s VINES.INI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8288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view of Mail en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wser VNSDL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ione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Excel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ual Basic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943280"/>
            <a:ext cx="844884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SendMail calls VNSDLG, there is a 1K byte limit on address data returned/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All with *@*@* mask could tak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endent on number of STDA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more than 32K bytes of returned data is allowed if call from other C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’s Maxmate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2360" y="1820880"/>
            <a:ext cx="3983040" cy="29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60960" y="1793880"/>
            <a:ext cx="38307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ag image or stack to Banyan drop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k invokes SENDMAIL, and adds image stack as an attac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ient reads message as normal mail message, launching Maxmate viewer to view attached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648320"/>
            <a:ext cx="781200" cy="1495440"/>
          </a:xfrm>
          <a:prstGeom prst="line">
            <a:avLst/>
          </a:prstGeom>
          <a:ln w="381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1600" y="5948280"/>
            <a:ext cx="589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Intelligent Messaging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3760" y="261000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d adkfas frrrer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klfasjfaslfk w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dfklferqr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kasfaser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fasqeerrr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fasfafaaq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9480" y="262908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187800" y="2698920"/>
            <a:ext cx="797040" cy="9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qaz df the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the ways 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otr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403494 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33040394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76480" y="263844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e3 3   230  1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34940  adfl; 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[0r 33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042 44 4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\3asfasff fa;l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d;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2120" y="3657600"/>
            <a:ext cx="457200" cy="5335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220968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95280" y="763560"/>
            <a:ext cx="76690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 Development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879560"/>
            <a:ext cx="815328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concept was “born” in looking for a fast way to integrate Visioneer’s Maxmate with 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link for the Maxmate desktop was built by Visioneer using their Maxmate SD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s will be freely distributed by Visioneer, or Bany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0600" y="1955880"/>
            <a:ext cx="8918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REGISTER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REGISTER("SENDMAIL.DLL","VnsSimpleSendMailH","HHF","SENDMAIL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egrating SENDMAIL into Excel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9800" y="4719600"/>
            <a:ext cx="5803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CALL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CALL (A20,0,“FILENAM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29200" y="3225960"/>
            <a:ext cx="3886200" cy="13716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3rd argument indicates what the function expects for return values as well as the data type of the one DLL arg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return valu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window hand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” is: Null terminated 255 max character st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857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9160" y="5816520"/>
            <a:ext cx="4076640" cy="96516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20 is the macro cell where the REGISTER statement is exec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” is the value of the calling window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LENAME” is the diskfile name that’s being 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4864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cel Program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0600" y="1955880"/>
            <a:ext cx="89186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5.0 support will differ from Excel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rent sheet must be “temp” saved to disk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et cannot be shared or locked at se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4.0 macro code supports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ing SendMail from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5520" y="1803240"/>
            <a:ext cx="34290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 enabling any application is easy with the SENDMAIL API called from V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.EXE is a simple “file sender” VB application utility that uses a call to the simple form of the SENDMAIL 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 sends only 1 file per invok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5960" y="2287440"/>
            <a:ext cx="37782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Basic code for VnsSimple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00" y="1955880"/>
            <a:ext cx="891864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lare Function VnsSimpleSendMail Lib "sendmail.dll" (ByVal pszFileName As String)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OfFile = Text1.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FileExists(NameOfFile) &lt;&gt; 0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turnCode = VnsSimpleSendMail(NameOfF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'Text1.Text = "File not found: " + NameOf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5040" y="5929200"/>
            <a:ext cx="7169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VB sample code for DF.EXE i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43080" y="839880"/>
            <a:ext cx="73962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600" y="1955880"/>
            <a:ext cx="89186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 any application to send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file, o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text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hat is SendM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4680" y="1663560"/>
            <a:ext cx="83707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is Banyan’s message-enabling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simplifies MAIL API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toolkit needed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s messaging and direc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75000"/>
              </a:lnSpc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ers can enable any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ktop (Word, Excel, Lotu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ndMail API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0600" y="1955880"/>
            <a:ext cx="891864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has two flav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mple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iest call to use.  Just give it a file name and it does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b760f9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work to use, but  more control over number of attachments, addressing, and main body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472752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43080" y="839880"/>
            <a:ext cx="7392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 SendMail Form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1200" y="2419200"/>
            <a:ext cx="2428920" cy="952560"/>
            <a:chOff x="781200" y="2419200"/>
            <a:chExt cx="2428920" cy="952560"/>
          </a:xfrm>
        </p:grpSpPr>
        <p:sp>
          <p:nvSpPr>
            <p:cNvPr id="56" name=""/>
            <p:cNvSpPr/>
            <p:nvPr/>
          </p:nvSpPr>
          <p:spPr>
            <a:xfrm>
              <a:off x="2066760" y="2419200"/>
              <a:ext cx="1143360" cy="937080"/>
            </a:xfrm>
            <a:custGeom>
              <a:avLst/>
              <a:gdLst/>
              <a:ahLst/>
              <a:rect l="0" t="0" r="r" b="b"/>
              <a:pathLst>
                <a:path w="3176" h="2603">
                  <a:moveTo>
                    <a:pt x="2428" y="1113"/>
                  </a:moveTo>
                  <a:lnTo>
                    <a:pt x="3176" y="554"/>
                  </a:lnTo>
                  <a:lnTo>
                    <a:pt x="2428" y="0"/>
                  </a:lnTo>
                  <a:lnTo>
                    <a:pt x="2428" y="360"/>
                  </a:lnTo>
                  <a:lnTo>
                    <a:pt x="2341" y="361"/>
                  </a:lnTo>
                  <a:lnTo>
                    <a:pt x="2251" y="367"/>
                  </a:lnTo>
                  <a:lnTo>
                    <a:pt x="2162" y="380"/>
                  </a:lnTo>
                  <a:lnTo>
                    <a:pt x="2077" y="397"/>
                  </a:lnTo>
                  <a:lnTo>
                    <a:pt x="1994" y="419"/>
                  </a:lnTo>
                  <a:lnTo>
                    <a:pt x="1913" y="446"/>
                  </a:lnTo>
                  <a:lnTo>
                    <a:pt x="1831" y="478"/>
                  </a:lnTo>
                  <a:lnTo>
                    <a:pt x="1754" y="513"/>
                  </a:lnTo>
                  <a:lnTo>
                    <a:pt x="1681" y="552"/>
                  </a:lnTo>
                  <a:lnTo>
                    <a:pt x="1612" y="592"/>
                  </a:lnTo>
                  <a:lnTo>
                    <a:pt x="1549" y="643"/>
                  </a:lnTo>
                  <a:lnTo>
                    <a:pt x="1488" y="695"/>
                  </a:lnTo>
                  <a:lnTo>
                    <a:pt x="1433" y="749"/>
                  </a:lnTo>
                  <a:lnTo>
                    <a:pt x="1384" y="806"/>
                  </a:lnTo>
                  <a:lnTo>
                    <a:pt x="1340" y="865"/>
                  </a:lnTo>
                  <a:lnTo>
                    <a:pt x="1299" y="926"/>
                  </a:lnTo>
                  <a:lnTo>
                    <a:pt x="1266" y="990"/>
                  </a:lnTo>
                  <a:lnTo>
                    <a:pt x="1240" y="1057"/>
                  </a:lnTo>
                  <a:lnTo>
                    <a:pt x="1222" y="1113"/>
                  </a:lnTo>
                  <a:lnTo>
                    <a:pt x="0" y="1113"/>
                  </a:lnTo>
                  <a:lnTo>
                    <a:pt x="0" y="1497"/>
                  </a:lnTo>
                  <a:lnTo>
                    <a:pt x="1209" y="1497"/>
                  </a:lnTo>
                  <a:lnTo>
                    <a:pt x="1260" y="1599"/>
                  </a:lnTo>
                  <a:lnTo>
                    <a:pt x="1291" y="1664"/>
                  </a:lnTo>
                  <a:lnTo>
                    <a:pt x="1331" y="1726"/>
                  </a:lnTo>
                  <a:lnTo>
                    <a:pt x="1375" y="1785"/>
                  </a:lnTo>
                  <a:lnTo>
                    <a:pt x="1423" y="1843"/>
                  </a:lnTo>
                  <a:lnTo>
                    <a:pt x="1476" y="1899"/>
                  </a:lnTo>
                  <a:lnTo>
                    <a:pt x="1534" y="1953"/>
                  </a:lnTo>
                  <a:lnTo>
                    <a:pt x="1599" y="2000"/>
                  </a:lnTo>
                  <a:lnTo>
                    <a:pt x="1667" y="2043"/>
                  </a:lnTo>
                  <a:lnTo>
                    <a:pt x="1738" y="2083"/>
                  </a:lnTo>
                  <a:lnTo>
                    <a:pt x="1814" y="2118"/>
                  </a:lnTo>
                  <a:lnTo>
                    <a:pt x="1894" y="2152"/>
                  </a:lnTo>
                  <a:lnTo>
                    <a:pt x="1978" y="2180"/>
                  </a:lnTo>
                  <a:lnTo>
                    <a:pt x="2059" y="2204"/>
                  </a:lnTo>
                  <a:lnTo>
                    <a:pt x="2144" y="2221"/>
                  </a:lnTo>
                  <a:lnTo>
                    <a:pt x="2233" y="2234"/>
                  </a:lnTo>
                  <a:lnTo>
                    <a:pt x="2322" y="2241"/>
                  </a:lnTo>
                  <a:lnTo>
                    <a:pt x="2407" y="2245"/>
                  </a:lnTo>
                  <a:lnTo>
                    <a:pt x="2428" y="2245"/>
                  </a:lnTo>
                  <a:lnTo>
                    <a:pt x="2428" y="2603"/>
                  </a:lnTo>
                  <a:lnTo>
                    <a:pt x="3176" y="2050"/>
                  </a:lnTo>
                  <a:lnTo>
                    <a:pt x="2428" y="1497"/>
                  </a:lnTo>
                  <a:lnTo>
                    <a:pt x="2429" y="1886"/>
                  </a:lnTo>
                  <a:lnTo>
                    <a:pt x="2413" y="1886"/>
                  </a:lnTo>
                  <a:lnTo>
                    <a:pt x="2347" y="1884"/>
                  </a:lnTo>
                  <a:lnTo>
                    <a:pt x="2276" y="1877"/>
                  </a:lnTo>
                  <a:lnTo>
                    <a:pt x="2207" y="1862"/>
                  </a:lnTo>
                  <a:lnTo>
                    <a:pt x="2141" y="1844"/>
                  </a:lnTo>
                  <a:lnTo>
                    <a:pt x="2077" y="1822"/>
                  </a:lnTo>
                  <a:lnTo>
                    <a:pt x="2015" y="1797"/>
                  </a:lnTo>
                  <a:lnTo>
                    <a:pt x="1959" y="1765"/>
                  </a:lnTo>
                  <a:lnTo>
                    <a:pt x="1906" y="1732"/>
                  </a:lnTo>
                  <a:lnTo>
                    <a:pt x="1857" y="1692"/>
                  </a:lnTo>
                  <a:lnTo>
                    <a:pt x="1810" y="1651"/>
                  </a:lnTo>
                  <a:lnTo>
                    <a:pt x="1771" y="1605"/>
                  </a:lnTo>
                  <a:lnTo>
                    <a:pt x="1738" y="1558"/>
                  </a:lnTo>
                  <a:lnTo>
                    <a:pt x="1709" y="1507"/>
                  </a:lnTo>
                  <a:lnTo>
                    <a:pt x="1689" y="1455"/>
                  </a:lnTo>
                  <a:lnTo>
                    <a:pt x="1673" y="1404"/>
                  </a:lnTo>
                  <a:lnTo>
                    <a:pt x="1664" y="1350"/>
                  </a:lnTo>
                  <a:lnTo>
                    <a:pt x="1661" y="1296"/>
                  </a:lnTo>
                  <a:lnTo>
                    <a:pt x="1664" y="1240"/>
                  </a:lnTo>
                  <a:lnTo>
                    <a:pt x="1675" y="1186"/>
                  </a:lnTo>
                  <a:lnTo>
                    <a:pt x="1693" y="1135"/>
                  </a:lnTo>
                  <a:lnTo>
                    <a:pt x="1716" y="1085"/>
                  </a:lnTo>
                  <a:lnTo>
                    <a:pt x="1743" y="1034"/>
                  </a:lnTo>
                  <a:lnTo>
                    <a:pt x="1780" y="986"/>
                  </a:lnTo>
                  <a:lnTo>
                    <a:pt x="1819" y="942"/>
                  </a:lnTo>
                  <a:lnTo>
                    <a:pt x="1865" y="901"/>
                  </a:lnTo>
                  <a:lnTo>
                    <a:pt x="1916" y="861"/>
                  </a:lnTo>
                  <a:lnTo>
                    <a:pt x="1972" y="830"/>
                  </a:lnTo>
                  <a:lnTo>
                    <a:pt x="2027" y="799"/>
                  </a:lnTo>
                  <a:lnTo>
                    <a:pt x="2089" y="773"/>
                  </a:lnTo>
                  <a:lnTo>
                    <a:pt x="2154" y="751"/>
                  </a:lnTo>
                  <a:lnTo>
                    <a:pt x="2221" y="736"/>
                  </a:lnTo>
                  <a:lnTo>
                    <a:pt x="2291" y="723"/>
                  </a:lnTo>
                  <a:lnTo>
                    <a:pt x="2361" y="717"/>
                  </a:lnTo>
                  <a:lnTo>
                    <a:pt x="2429" y="715"/>
                  </a:lnTo>
                  <a:lnTo>
                    <a:pt x="2428" y="1113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81200" y="2503440"/>
              <a:ext cx="1285920" cy="868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90560" y="4495680"/>
            <a:ext cx="5600880" cy="847800"/>
            <a:chOff x="790560" y="4495680"/>
            <a:chExt cx="5600880" cy="847800"/>
          </a:xfrm>
        </p:grpSpPr>
        <p:sp>
          <p:nvSpPr>
            <p:cNvPr id="59" name=""/>
            <p:cNvSpPr/>
            <p:nvPr/>
          </p:nvSpPr>
          <p:spPr>
            <a:xfrm>
              <a:off x="2082960" y="4495680"/>
              <a:ext cx="3940560" cy="733680"/>
            </a:xfrm>
            <a:custGeom>
              <a:avLst/>
              <a:gdLst/>
              <a:ahLst/>
              <a:rect l="0" t="0" r="r" b="b"/>
              <a:pathLst>
                <a:path w="10946" h="2038">
                  <a:moveTo>
                    <a:pt x="3403" y="1014"/>
                  </a:moveTo>
                  <a:lnTo>
                    <a:pt x="4119" y="507"/>
                  </a:lnTo>
                  <a:lnTo>
                    <a:pt x="3403" y="0"/>
                  </a:lnTo>
                  <a:lnTo>
                    <a:pt x="3403" y="338"/>
                  </a:lnTo>
                  <a:lnTo>
                    <a:pt x="2111" y="327"/>
                  </a:lnTo>
                  <a:lnTo>
                    <a:pt x="2030" y="333"/>
                  </a:lnTo>
                  <a:lnTo>
                    <a:pt x="1950" y="344"/>
                  </a:lnTo>
                  <a:lnTo>
                    <a:pt x="1873" y="360"/>
                  </a:lnTo>
                  <a:lnTo>
                    <a:pt x="1799" y="380"/>
                  </a:lnTo>
                  <a:lnTo>
                    <a:pt x="1725" y="404"/>
                  </a:lnTo>
                  <a:lnTo>
                    <a:pt x="1651" y="433"/>
                  </a:lnTo>
                  <a:lnTo>
                    <a:pt x="1582" y="465"/>
                  </a:lnTo>
                  <a:lnTo>
                    <a:pt x="1516" y="501"/>
                  </a:lnTo>
                  <a:lnTo>
                    <a:pt x="1454" y="538"/>
                  </a:lnTo>
                  <a:lnTo>
                    <a:pt x="1397" y="583"/>
                  </a:lnTo>
                  <a:lnTo>
                    <a:pt x="1343" y="630"/>
                  </a:lnTo>
                  <a:lnTo>
                    <a:pt x="1293" y="679"/>
                  </a:lnTo>
                  <a:lnTo>
                    <a:pt x="1249" y="731"/>
                  </a:lnTo>
                  <a:lnTo>
                    <a:pt x="1210" y="785"/>
                  </a:lnTo>
                  <a:lnTo>
                    <a:pt x="1172" y="841"/>
                  </a:lnTo>
                  <a:lnTo>
                    <a:pt x="1142" y="899"/>
                  </a:lnTo>
                  <a:lnTo>
                    <a:pt x="1119" y="960"/>
                  </a:lnTo>
                  <a:lnTo>
                    <a:pt x="1103" y="1011"/>
                  </a:lnTo>
                  <a:lnTo>
                    <a:pt x="0" y="1011"/>
                  </a:lnTo>
                  <a:lnTo>
                    <a:pt x="0" y="1361"/>
                  </a:lnTo>
                  <a:lnTo>
                    <a:pt x="1091" y="1361"/>
                  </a:lnTo>
                  <a:lnTo>
                    <a:pt x="1137" y="1454"/>
                  </a:lnTo>
                  <a:lnTo>
                    <a:pt x="1165" y="1513"/>
                  </a:lnTo>
                  <a:lnTo>
                    <a:pt x="1201" y="1570"/>
                  </a:lnTo>
                  <a:lnTo>
                    <a:pt x="1241" y="1623"/>
                  </a:lnTo>
                  <a:lnTo>
                    <a:pt x="1284" y="1677"/>
                  </a:lnTo>
                  <a:lnTo>
                    <a:pt x="1332" y="1727"/>
                  </a:lnTo>
                  <a:lnTo>
                    <a:pt x="1385" y="1775"/>
                  </a:lnTo>
                  <a:lnTo>
                    <a:pt x="1442" y="1819"/>
                  </a:lnTo>
                  <a:lnTo>
                    <a:pt x="1503" y="1858"/>
                  </a:lnTo>
                  <a:lnTo>
                    <a:pt x="1567" y="1894"/>
                  </a:lnTo>
                  <a:lnTo>
                    <a:pt x="1636" y="1926"/>
                  </a:lnTo>
                  <a:lnTo>
                    <a:pt x="1708" y="1956"/>
                  </a:lnTo>
                  <a:lnTo>
                    <a:pt x="1784" y="1982"/>
                  </a:lnTo>
                  <a:lnTo>
                    <a:pt x="1857" y="2004"/>
                  </a:lnTo>
                  <a:lnTo>
                    <a:pt x="1934" y="2020"/>
                  </a:lnTo>
                  <a:lnTo>
                    <a:pt x="2014" y="2031"/>
                  </a:lnTo>
                  <a:lnTo>
                    <a:pt x="2094" y="2038"/>
                  </a:lnTo>
                  <a:lnTo>
                    <a:pt x="10943" y="2027"/>
                  </a:lnTo>
                  <a:lnTo>
                    <a:pt x="10946" y="1731"/>
                  </a:lnTo>
                  <a:lnTo>
                    <a:pt x="1991" y="1694"/>
                  </a:lnTo>
                  <a:lnTo>
                    <a:pt x="1931" y="1677"/>
                  </a:lnTo>
                  <a:lnTo>
                    <a:pt x="1873" y="1657"/>
                  </a:lnTo>
                  <a:lnTo>
                    <a:pt x="1818" y="1634"/>
                  </a:lnTo>
                  <a:lnTo>
                    <a:pt x="1767" y="1605"/>
                  </a:lnTo>
                  <a:lnTo>
                    <a:pt x="1719" y="1575"/>
                  </a:lnTo>
                  <a:lnTo>
                    <a:pt x="1675" y="1539"/>
                  </a:lnTo>
                  <a:lnTo>
                    <a:pt x="1632" y="1501"/>
                  </a:lnTo>
                  <a:lnTo>
                    <a:pt x="1597" y="1460"/>
                  </a:lnTo>
                  <a:lnTo>
                    <a:pt x="1567" y="1417"/>
                  </a:lnTo>
                  <a:lnTo>
                    <a:pt x="1541" y="1370"/>
                  </a:lnTo>
                  <a:lnTo>
                    <a:pt x="1523" y="1323"/>
                  </a:lnTo>
                  <a:lnTo>
                    <a:pt x="1508" y="1276"/>
                  </a:lnTo>
                  <a:lnTo>
                    <a:pt x="1501" y="1227"/>
                  </a:lnTo>
                  <a:lnTo>
                    <a:pt x="1498" y="1178"/>
                  </a:lnTo>
                  <a:lnTo>
                    <a:pt x="1501" y="1128"/>
                  </a:lnTo>
                  <a:lnTo>
                    <a:pt x="1510" y="1079"/>
                  </a:lnTo>
                  <a:lnTo>
                    <a:pt x="1526" y="1032"/>
                  </a:lnTo>
                  <a:lnTo>
                    <a:pt x="1548" y="985"/>
                  </a:lnTo>
                  <a:lnTo>
                    <a:pt x="1572" y="939"/>
                  </a:lnTo>
                  <a:lnTo>
                    <a:pt x="1605" y="895"/>
                  </a:lnTo>
                  <a:lnTo>
                    <a:pt x="1641" y="855"/>
                  </a:lnTo>
                  <a:lnTo>
                    <a:pt x="1682" y="818"/>
                  </a:lnTo>
                  <a:lnTo>
                    <a:pt x="1728" y="781"/>
                  </a:lnTo>
                  <a:lnTo>
                    <a:pt x="1778" y="753"/>
                  </a:lnTo>
                  <a:lnTo>
                    <a:pt x="1828" y="725"/>
                  </a:lnTo>
                  <a:lnTo>
                    <a:pt x="1884" y="701"/>
                  </a:lnTo>
                  <a:lnTo>
                    <a:pt x="1943" y="681"/>
                  </a:lnTo>
                  <a:lnTo>
                    <a:pt x="2003" y="667"/>
                  </a:lnTo>
                  <a:lnTo>
                    <a:pt x="2066" y="656"/>
                  </a:lnTo>
                  <a:lnTo>
                    <a:pt x="2129" y="650"/>
                  </a:lnTo>
                  <a:lnTo>
                    <a:pt x="3403" y="676"/>
                  </a:lnTo>
                  <a:lnTo>
                    <a:pt x="3403" y="1014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90560" y="4556160"/>
              <a:ext cx="1292400" cy="787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9280" y="4799160"/>
              <a:ext cx="362160" cy="424080"/>
            </a:xfrm>
            <a:custGeom>
              <a:avLst/>
              <a:gdLst/>
              <a:ahLst/>
              <a:rect l="0" t="0" r="r" b="b"/>
              <a:pathLst>
                <a:path w="1006" h="1178">
                  <a:moveTo>
                    <a:pt x="7" y="1178"/>
                  </a:moveTo>
                  <a:lnTo>
                    <a:pt x="21" y="1178"/>
                  </a:lnTo>
                  <a:lnTo>
                    <a:pt x="115" y="1136"/>
                  </a:lnTo>
                  <a:lnTo>
                    <a:pt x="178" y="1122"/>
                  </a:lnTo>
                  <a:lnTo>
                    <a:pt x="231" y="1095"/>
                  </a:lnTo>
                  <a:lnTo>
                    <a:pt x="280" y="1068"/>
                  </a:lnTo>
                  <a:lnTo>
                    <a:pt x="325" y="1039"/>
                  </a:lnTo>
                  <a:lnTo>
                    <a:pt x="378" y="1010"/>
                  </a:lnTo>
                  <a:lnTo>
                    <a:pt x="423" y="973"/>
                  </a:lnTo>
                  <a:lnTo>
                    <a:pt x="465" y="934"/>
                  </a:lnTo>
                  <a:lnTo>
                    <a:pt x="500" y="893"/>
                  </a:lnTo>
                  <a:lnTo>
                    <a:pt x="543" y="854"/>
                  </a:lnTo>
                  <a:lnTo>
                    <a:pt x="575" y="805"/>
                  </a:lnTo>
                  <a:lnTo>
                    <a:pt x="600" y="756"/>
                  </a:lnTo>
                  <a:lnTo>
                    <a:pt x="628" y="705"/>
                  </a:lnTo>
                  <a:lnTo>
                    <a:pt x="649" y="659"/>
                  </a:lnTo>
                  <a:lnTo>
                    <a:pt x="659" y="610"/>
                  </a:lnTo>
                  <a:lnTo>
                    <a:pt x="677" y="558"/>
                  </a:lnTo>
                  <a:lnTo>
                    <a:pt x="673" y="507"/>
                  </a:lnTo>
                  <a:lnTo>
                    <a:pt x="673" y="455"/>
                  </a:lnTo>
                  <a:lnTo>
                    <a:pt x="680" y="441"/>
                  </a:lnTo>
                  <a:lnTo>
                    <a:pt x="1006" y="438"/>
                  </a:lnTo>
                  <a:lnTo>
                    <a:pt x="490" y="0"/>
                  </a:lnTo>
                  <a:lnTo>
                    <a:pt x="0" y="450"/>
                  </a:lnTo>
                  <a:lnTo>
                    <a:pt x="353" y="446"/>
                  </a:lnTo>
                  <a:lnTo>
                    <a:pt x="350" y="455"/>
                  </a:lnTo>
                  <a:lnTo>
                    <a:pt x="350" y="497"/>
                  </a:lnTo>
                  <a:lnTo>
                    <a:pt x="346" y="538"/>
                  </a:lnTo>
                  <a:lnTo>
                    <a:pt x="332" y="577"/>
                  </a:lnTo>
                  <a:lnTo>
                    <a:pt x="315" y="615"/>
                  </a:lnTo>
                  <a:lnTo>
                    <a:pt x="301" y="649"/>
                  </a:lnTo>
                  <a:lnTo>
                    <a:pt x="276" y="690"/>
                  </a:lnTo>
                  <a:lnTo>
                    <a:pt x="255" y="722"/>
                  </a:lnTo>
                  <a:lnTo>
                    <a:pt x="224" y="754"/>
                  </a:lnTo>
                  <a:lnTo>
                    <a:pt x="192" y="785"/>
                  </a:lnTo>
                  <a:lnTo>
                    <a:pt x="154" y="812"/>
                  </a:lnTo>
                  <a:lnTo>
                    <a:pt x="112" y="834"/>
                  </a:lnTo>
                  <a:lnTo>
                    <a:pt x="70" y="859"/>
                  </a:lnTo>
                  <a:lnTo>
                    <a:pt x="24" y="876"/>
                  </a:lnTo>
                  <a:lnTo>
                    <a:pt x="7" y="944"/>
                  </a:lnTo>
                  <a:lnTo>
                    <a:pt x="7" y="1178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8200" y="1965240"/>
            <a:ext cx="7923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sendmail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  iCallR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FileNa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allRet = VnsSimpleSendMail( "FILENAME.TXT"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st Form of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8240" y="1765440"/>
            <a:ext cx="2260440" cy="1193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olves to char FAR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 for Simple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600" y="1955880"/>
            <a:ext cx="891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ing application must create a disk imag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will open the fil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file is not “lock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codes other than zero can be explained using the call VNSERR error:  VNSERR 30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LT-ENTER to &lt;CR,LF&gt; in message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 edit box support 749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lexible SendMail API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0600" y="1955880"/>
            <a:ext cx="891864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LPBODY_PIECES lpBodyPieces, LPSTR lpRecips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BODY_PIECES  lpBodyPiece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having SENDMAIL.DLL package up one file to send, this structure allows you to send mutiple files as attachments, or in message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 lpRecips;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pass a pointer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lpRecip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the VNSDLG browser will NOT come up. A NULL will bring up the addressing dialog bo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Sohn</dc:creator>
  <dc:description/>
  <dc:language>en-US</dc:language>
  <cp:lastModifiedBy>Steven Sohn</cp:lastModifiedBy>
  <cp:revision>0</cp:revision>
  <dc:subject>Banyan 1994 Developer confenence</dc:subject>
  <dc:title>Mail Enabling Desktop Applications</dc:title>
</cp:coreProperties>
</file>